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635-F235-4179-9CB2-F70330ED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0B9-CE22-40C1-A626-0A625F97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6FF-6ABF-43B2-82B3-7EA72F4B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4D3-CD10-4AD6-8177-FD1811B9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394-CAA4-4C18-BE59-A9884685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BA1-F005-47C4-80B8-65956669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326-7991-48D0-B198-A357FC05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40A-B04A-463D-ACF2-8AAB69F7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4EB-AFAF-485B-BE76-3FA6B6F0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2D8-B5C8-4F43-83C7-1711462E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D11-80D9-440E-85DA-B62F8021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371-D58D-4A8B-8435-0E53017B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7B94-F8B3-4525-8614-7302C99D1C3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76280" y="765000"/>
            <a:ext cx="8191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80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رع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الرع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ذكر الرعد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محم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مال قدرة الله تعا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14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ية الو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البع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ستدلال بتوحيد الربوبية على توحيد الألوه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5"/>
          <p:cNvCxnSpPr/>
          <p:nvPr/>
        </p:nvCxnSpPr>
        <p:spPr>
          <a:xfrm flipH="1">
            <a:off x="8458920" y="380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4160" y="35733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صفات السعداء والأشقيا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2T10:16:42Z</dcterms:modified>
  <cp:revision>1807</cp:revision>
  <dc:subject/>
  <dc:title>عرض تقديمي في PowerPoint</dc:title>
</cp:coreProperties>
</file>